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79D-8C88-4E85-BE28-8FE59446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A00-392C-4950-98C9-3F9E6AF6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C83A-4241-4D39-A811-9D1178F2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7E5-DAE6-49F3-8502-788AAD29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1D1-FE34-4C5A-AAC5-4A44CE4B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C20-B56D-4954-8DE2-385C502C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DCD-BCE1-4ACD-99D7-1E1D2E5B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B0B-2DD9-401D-8E2F-C6A0A49A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555-54EC-456F-8F91-CA2568C3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0AC-8D8C-407C-8C39-26ED5BAA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3E53-DA2C-4B03-9374-2147589C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BF0-1B77-4FBA-A5AF-92842E6C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83B1-858B-4C54-B443-A0BA3B29C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1.png"/><Relationship Id="rId3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8920" y="36021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c02"/>
                </a:solidFill>
                <a:latin typeface="Comic Sans MS"/>
              </a:rPr>
              <a:t>19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90920" y="2232000"/>
            <a:ext cx="2060280" cy="79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562720" y="2357280"/>
            <a:ext cx="1218960" cy="601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590920" y="3417840"/>
            <a:ext cx="4516200" cy="6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590920" y="43560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05400" y="4427640"/>
            <a:ext cx="1528920" cy="53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666880" y="5340240"/>
            <a:ext cx="1030320" cy="37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106960" y="5302080"/>
            <a:ext cx="1785960" cy="34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66880" y="3048120"/>
            <a:ext cx="1905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30481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4121280"/>
            <a:ext cx="4419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88952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1720" y="488304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570852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3280" y="572148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39040" y="29718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-3 grupp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71200" y="297180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-5 grup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4044960"/>
            <a:ext cx="17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-6-12 grup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0760" y="480060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3-15 grup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01720" y="480708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6-18 gruppo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83360" y="564516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-20 grupp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90400" y="564516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-21-22 gruppo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2133720"/>
            <a:ext cx="472464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8380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ferenza di Den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9520" y="68436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9480" y="2057400"/>
            <a:ext cx="3513960" cy="1231920"/>
            <a:chOff x="609480" y="2057400"/>
            <a:chExt cx="3513960" cy="1231920"/>
          </a:xfrm>
        </p:grpSpPr>
        <p:sp>
          <p:nvSpPr>
            <p:cNvPr id="175" name=""/>
            <p:cNvSpPr/>
            <p:nvPr/>
          </p:nvSpPr>
          <p:spPr>
            <a:xfrm>
              <a:off x="2796840" y="2743200"/>
              <a:ext cx="132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ppia e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 D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09480" y="2057400"/>
              <a:ext cx="2210040" cy="1231920"/>
              <a:chOff x="609480" y="2057400"/>
              <a:chExt cx="2210040" cy="1231920"/>
            </a:xfrm>
          </p:grpSpPr>
          <p:sp>
            <p:nvSpPr>
              <p:cNvPr id="177" name=""/>
              <p:cNvSpPr/>
              <p:nvPr/>
            </p:nvSpPr>
            <p:spPr>
              <a:xfrm>
                <a:off x="1676520" y="2057400"/>
                <a:ext cx="68580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990360" y="2057400"/>
                <a:ext cx="68580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9480" y="2793960"/>
                <a:ext cx="2210040" cy="482760"/>
              </a:xfrm>
              <a:custGeom>
                <a:avLst/>
                <a:gdLst/>
                <a:ahLst/>
                <a:rect l="l" t="t" r="r" b="b"/>
                <a:pathLst>
                  <a:path w="1392" h="304">
                    <a:moveTo>
                      <a:pt x="0" y="16"/>
                    </a:moveTo>
                    <a:cubicBezTo>
                      <a:pt x="80" y="160"/>
                      <a:pt x="160" y="304"/>
                      <a:pt x="240" y="304"/>
                    </a:cubicBezTo>
                    <a:cubicBezTo>
                      <a:pt x="320" y="304"/>
                      <a:pt x="408" y="32"/>
                      <a:pt x="480" y="16"/>
                    </a:cubicBezTo>
                    <a:cubicBezTo>
                      <a:pt x="552" y="0"/>
                      <a:pt x="600" y="208"/>
                      <a:pt x="672" y="208"/>
                    </a:cubicBezTo>
                    <a:cubicBezTo>
                      <a:pt x="744" y="208"/>
                      <a:pt x="848" y="16"/>
                      <a:pt x="912" y="16"/>
                    </a:cubicBezTo>
                    <a:cubicBezTo>
                      <a:pt x="976" y="16"/>
                      <a:pt x="1000" y="200"/>
                      <a:pt x="1056" y="208"/>
                    </a:cubicBezTo>
                    <a:cubicBezTo>
                      <a:pt x="1112" y="216"/>
                      <a:pt x="1192" y="72"/>
                      <a:pt x="1248" y="64"/>
                    </a:cubicBezTo>
                    <a:cubicBezTo>
                      <a:pt x="1304" y="56"/>
                      <a:pt x="1368" y="144"/>
                      <a:pt x="1392" y="160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62120" y="2743200"/>
                <a:ext cx="1981080" cy="546120"/>
              </a:xfrm>
              <a:custGeom>
                <a:avLst/>
                <a:gdLst/>
                <a:ahLst/>
                <a:rect l="l" t="t" r="r" b="b"/>
                <a:pathLst>
                  <a:path w="1248" h="344">
                    <a:moveTo>
                      <a:pt x="0" y="0"/>
                    </a:moveTo>
                    <a:cubicBezTo>
                      <a:pt x="80" y="168"/>
                      <a:pt x="160" y="336"/>
                      <a:pt x="240" y="336"/>
                    </a:cubicBezTo>
                    <a:cubicBezTo>
                      <a:pt x="320" y="336"/>
                      <a:pt x="408" y="0"/>
                      <a:pt x="480" y="0"/>
                    </a:cubicBezTo>
                    <a:cubicBezTo>
                      <a:pt x="552" y="0"/>
                      <a:pt x="600" y="328"/>
                      <a:pt x="672" y="336"/>
                    </a:cubicBezTo>
                    <a:cubicBezTo>
                      <a:pt x="744" y="344"/>
                      <a:pt x="848" y="56"/>
                      <a:pt x="912" y="48"/>
                    </a:cubicBezTo>
                    <a:cubicBezTo>
                      <a:pt x="976" y="40"/>
                      <a:pt x="1016" y="272"/>
                      <a:pt x="1056" y="288"/>
                    </a:cubicBezTo>
                    <a:cubicBezTo>
                      <a:pt x="1096" y="304"/>
                      <a:pt x="1120" y="152"/>
                      <a:pt x="1152" y="144"/>
                    </a:cubicBezTo>
                    <a:cubicBezTo>
                      <a:pt x="1184" y="136"/>
                      <a:pt x="1232" y="224"/>
                      <a:pt x="1248" y="24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23880" y="2819520"/>
                <a:ext cx="228600" cy="38088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380880"/>
                  <a:gd name="textAreaBottom" fmla="*/ 369720 h 380880"/>
                </a:gdLst>
                <a:ahLst/>
                <a:rect l="textAreaLeft" t="textAreaTop" r="textAreaRight" b="textAreaBottom"/>
                <a:pathLst>
                  <a:path w="21600" h="35966">
                    <a:moveTo>
                      <a:pt x="3600" y="0"/>
                    </a:moveTo>
                    <a:arcTo wR="3600" hR="3600" stAng="16200000" swAng="-5400000"/>
                    <a:lnTo>
                      <a:pt x="0" y="32366"/>
                    </a:lnTo>
                    <a:arcTo wR="3600" hR="3600" stAng="10800000" swAng="-5400000"/>
                    <a:lnTo>
                      <a:pt x="18000" y="359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152280" y="3174840"/>
            <a:ext cx="2743200" cy="1231920"/>
            <a:chOff x="152280" y="3174840"/>
            <a:chExt cx="2743200" cy="1231920"/>
          </a:xfrm>
        </p:grpSpPr>
        <p:sp>
          <p:nvSpPr>
            <p:cNvPr id="183" name=""/>
            <p:cNvSpPr/>
            <p:nvPr/>
          </p:nvSpPr>
          <p:spPr>
            <a:xfrm>
              <a:off x="1701720" y="3174840"/>
              <a:ext cx="6098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927000" y="3174840"/>
              <a:ext cx="6098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38862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20" y="38862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8280" y="3886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952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9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002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24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1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574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096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23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52280" y="4406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2120" y="440676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438280" y="44067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366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9892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1415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2938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4464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5987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7510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9036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0559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2082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3608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5131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048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85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0476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55960" y="388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08240" y="388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7240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1928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73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1916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7144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345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8104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8840" y="40528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5720" y="405144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188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156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95280" y="403848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6520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3240" y="4038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7012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1628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6856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2732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85360" y="4038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223040" y="3709440"/>
            <a:ext cx="1746000" cy="2738520"/>
            <a:chOff x="7223040" y="3709440"/>
            <a:chExt cx="1746000" cy="2738520"/>
          </a:xfrm>
        </p:grpSpPr>
        <p:grpSp>
          <p:nvGrpSpPr>
            <p:cNvPr id="240" name=""/>
            <p:cNvGrpSpPr/>
            <p:nvPr/>
          </p:nvGrpSpPr>
          <p:grpSpPr>
            <a:xfrm>
              <a:off x="7223040" y="3709440"/>
              <a:ext cx="1746000" cy="2738520"/>
              <a:chOff x="7223040" y="3709440"/>
              <a:chExt cx="1746000" cy="2738520"/>
            </a:xfrm>
          </p:grpSpPr>
          <p:sp>
            <p:nvSpPr>
              <p:cNvPr id="241" name=""/>
              <p:cNvSpPr/>
              <p:nvPr/>
            </p:nvSpPr>
            <p:spPr>
              <a:xfrm rot="5388600">
                <a:off x="7391880" y="4799880"/>
                <a:ext cx="2662200" cy="482760"/>
              </a:xfrm>
              <a:prstGeom prst="parallelogram">
                <a:avLst>
                  <a:gd name="adj" fmla="val 137864"/>
                </a:avLst>
              </a:prstGeom>
              <a:solidFill>
                <a:srgbClr val="f3f3f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8557200" y="4419000"/>
                <a:ext cx="309600" cy="1220040"/>
                <a:chOff x="8557200" y="4419000"/>
                <a:chExt cx="309600" cy="1220040"/>
              </a:xfrm>
            </p:grpSpPr>
            <p:sp>
              <p:nvSpPr>
                <p:cNvPr id="243" name=""/>
                <p:cNvSpPr/>
                <p:nvPr/>
              </p:nvSpPr>
              <p:spPr>
                <a:xfrm rot="5385000">
                  <a:off x="8408160" y="5180760"/>
                  <a:ext cx="76176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5385000">
                  <a:off x="8557920" y="4571280"/>
                  <a:ext cx="45684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5385000">
                  <a:off x="8255880" y="5181480"/>
                  <a:ext cx="76176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5385000">
                  <a:off x="8405640" y="4572000"/>
                  <a:ext cx="45684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5385000">
                  <a:off x="8634960" y="4762080"/>
                  <a:ext cx="151920" cy="228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H="1">
                <a:off x="7538760" y="5052240"/>
                <a:ext cx="1077120" cy="71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7543800" y="510552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23040" y="5867280"/>
                <a:ext cx="1422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osserv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l vetri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8534520" y="5029200"/>
              <a:ext cx="164880" cy="177840"/>
            </a:xfrm>
            <a:prstGeom prst="irregularSeal2">
              <a:avLst/>
            </a:prstGeom>
            <a:solidFill>
              <a:srgbClr val="00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99400" y="5016600"/>
              <a:ext cx="165240" cy="177840"/>
            </a:xfrm>
            <a:prstGeom prst="irregularSeal2">
              <a:avLst/>
            </a:prstGeom>
            <a:solidFill>
              <a:srgbClr val="00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03040" y="4495680"/>
            <a:ext cx="2692440" cy="1282320"/>
            <a:chOff x="203040" y="4495680"/>
            <a:chExt cx="2692440" cy="1282320"/>
          </a:xfrm>
        </p:grpSpPr>
        <p:sp>
          <p:nvSpPr>
            <p:cNvPr id="254" name=""/>
            <p:cNvSpPr/>
            <p:nvPr/>
          </p:nvSpPr>
          <p:spPr>
            <a:xfrm>
              <a:off x="203040" y="5105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03040" y="5765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35600" y="4495680"/>
              <a:ext cx="2459880" cy="1282320"/>
              <a:chOff x="435600" y="4495680"/>
              <a:chExt cx="2459880" cy="1282320"/>
            </a:xfrm>
          </p:grpSpPr>
          <p:sp>
            <p:nvSpPr>
              <p:cNvPr id="257" name=""/>
              <p:cNvSpPr/>
              <p:nvPr/>
            </p:nvSpPr>
            <p:spPr>
              <a:xfrm>
                <a:off x="812880" y="510552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89040" y="5105520"/>
                <a:ext cx="406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888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414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937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460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986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509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032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558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081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604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130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653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812880" y="576576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2488680" y="5765400"/>
                <a:ext cx="4064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8874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0400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1923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3446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4972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6495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8018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19544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1067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2590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24116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25639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124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9928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05552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06720" y="5105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59000" y="5105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2316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7004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2808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6992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2256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8528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3180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9600" y="54118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06480" y="54100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5264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9232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46040" y="5397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1596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7400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8208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6704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1932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780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43612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349360" y="57657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4495680"/>
                <a:ext cx="228600" cy="45720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5600" y="449568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natur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258120" y="990720"/>
            <a:ext cx="2709000" cy="1143000"/>
            <a:chOff x="258120" y="990720"/>
            <a:chExt cx="2709000" cy="1143000"/>
          </a:xfrm>
        </p:grpSpPr>
        <p:sp>
          <p:nvSpPr>
            <p:cNvPr id="313" name=""/>
            <p:cNvSpPr/>
            <p:nvPr/>
          </p:nvSpPr>
          <p:spPr>
            <a:xfrm>
              <a:off x="304920" y="1650960"/>
              <a:ext cx="2662200" cy="482760"/>
            </a:xfrm>
            <a:prstGeom prst="parallelogram">
              <a:avLst>
                <a:gd name="adj" fmla="val 137864"/>
              </a:avLst>
            </a:prstGeom>
            <a:solidFill>
              <a:srgbClr val="f3f3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914400" y="1727280"/>
              <a:ext cx="1219320" cy="304560"/>
              <a:chOff x="914400" y="1727280"/>
              <a:chExt cx="1219320" cy="304560"/>
            </a:xfrm>
          </p:grpSpPr>
          <p:sp>
            <p:nvSpPr>
              <p:cNvPr id="315" name=""/>
              <p:cNvSpPr/>
              <p:nvPr/>
            </p:nvSpPr>
            <p:spPr>
              <a:xfrm>
                <a:off x="1371600" y="1727280"/>
                <a:ext cx="76212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14400" y="1727280"/>
                <a:ext cx="45720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71600" y="1879560"/>
                <a:ext cx="76212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14400" y="1879560"/>
                <a:ext cx="45720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295640" y="176544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600200" y="1905120"/>
              <a:ext cx="152280" cy="15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8120" y="990720"/>
              <a:ext cx="1317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l vetr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1295280"/>
              <a:ext cx="4572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334120" y="762120"/>
            <a:ext cx="3657600" cy="1675800"/>
            <a:chOff x="5334120" y="762120"/>
            <a:chExt cx="3657600" cy="1675800"/>
          </a:xfrm>
        </p:grpSpPr>
        <p:grpSp>
          <p:nvGrpSpPr>
            <p:cNvPr id="324" name=""/>
            <p:cNvGrpSpPr/>
            <p:nvPr/>
          </p:nvGrpSpPr>
          <p:grpSpPr>
            <a:xfrm>
              <a:off x="8229600" y="990720"/>
              <a:ext cx="457200" cy="1447200"/>
              <a:chOff x="8229600" y="990720"/>
              <a:chExt cx="457200" cy="1447200"/>
            </a:xfrm>
          </p:grpSpPr>
          <p:sp>
            <p:nvSpPr>
              <p:cNvPr id="325" name=""/>
              <p:cNvSpPr/>
              <p:nvPr/>
            </p:nvSpPr>
            <p:spPr>
              <a:xfrm rot="5400000">
                <a:off x="7753320" y="1580760"/>
                <a:ext cx="1409400" cy="304560"/>
              </a:xfrm>
              <a:prstGeom prst="flowChartDelay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229600" y="990720"/>
                <a:ext cx="457200" cy="75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400000">
                <a:off x="7962840" y="1790280"/>
                <a:ext cx="990360" cy="304560"/>
              </a:xfrm>
              <a:prstGeom prst="flowChartDelay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5334120" y="762120"/>
              <a:ext cx="3657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intesi di una sonda complementare marcata con un fluorocro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621240" y="3673800"/>
            <a:ext cx="4551480" cy="1701720"/>
            <a:chOff x="3621240" y="3673800"/>
            <a:chExt cx="4551480" cy="1701720"/>
          </a:xfrm>
        </p:grpSpPr>
        <p:sp>
          <p:nvSpPr>
            <p:cNvPr id="330" name=""/>
            <p:cNvSpPr/>
            <p:nvPr/>
          </p:nvSpPr>
          <p:spPr>
            <a:xfrm>
              <a:off x="5456160" y="3733920"/>
              <a:ext cx="271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bridazione della sonda s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mosomi denaturat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l vetr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3621240" y="3673800"/>
              <a:ext cx="1885680" cy="1701720"/>
              <a:chOff x="3621240" y="3673800"/>
              <a:chExt cx="1885680" cy="1701720"/>
            </a:xfrm>
          </p:grpSpPr>
          <p:sp>
            <p:nvSpPr>
              <p:cNvPr id="332" name=""/>
              <p:cNvSpPr/>
              <p:nvPr/>
            </p:nvSpPr>
            <p:spPr>
              <a:xfrm>
                <a:off x="5181480" y="4038480"/>
                <a:ext cx="152640" cy="15264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263600">
                <a:off x="3769920" y="443988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263600">
                <a:off x="4557240" y="41148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263600">
                <a:off x="3824280" y="3876840"/>
                <a:ext cx="1371600" cy="1295280"/>
              </a:xfrm>
              <a:custGeom>
                <a:avLst/>
                <a:gdLst/>
                <a:ahLst/>
                <a:rect l="l" t="t" r="r" b="b"/>
                <a:pathLst>
                  <a:path w="432" h="432">
                    <a:moveTo>
                      <a:pt x="432" y="0"/>
                    </a:moveTo>
                    <a:cubicBezTo>
                      <a:pt x="356" y="28"/>
                      <a:pt x="280" y="56"/>
                      <a:pt x="240" y="96"/>
                    </a:cubicBezTo>
                    <a:cubicBezTo>
                      <a:pt x="200" y="136"/>
                      <a:pt x="224" y="208"/>
                      <a:pt x="192" y="240"/>
                    </a:cubicBezTo>
                    <a:cubicBezTo>
                      <a:pt x="160" y="272"/>
                      <a:pt x="80" y="256"/>
                      <a:pt x="48" y="288"/>
                    </a:cubicBezTo>
                    <a:cubicBezTo>
                      <a:pt x="16" y="320"/>
                      <a:pt x="8" y="416"/>
                      <a:pt x="0" y="432"/>
                    </a:cubicBez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263600">
                <a:off x="3660840" y="4712400"/>
                <a:ext cx="295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263600">
                <a:off x="3796920" y="4596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263600">
                <a:off x="3918240" y="4536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263600">
                <a:off x="4070520" y="454248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263600">
                <a:off x="4256640" y="4506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263600">
                <a:off x="4374720" y="441036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263600">
                <a:off x="4479840" y="42919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263600">
                <a:off x="4598640" y="4212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1264200">
                <a:off x="4751280" y="4131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263600">
                <a:off x="4965840" y="4150800"/>
                <a:ext cx="27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263600">
                <a:off x="5100840" y="4150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21080" y="41022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8483000">
                <a:off x="4639320" y="4732920"/>
                <a:ext cx="838080" cy="211320"/>
              </a:xfrm>
              <a:prstGeom prst="leftArrow">
                <a:avLst>
                  <a:gd name="adj1" fmla="val 50000"/>
                  <a:gd name="adj2" fmla="val 99148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4952520" y="5126040"/>
            <a:ext cx="2959560" cy="907560"/>
            <a:chOff x="4952520" y="5126040"/>
            <a:chExt cx="2959560" cy="907560"/>
          </a:xfrm>
        </p:grpSpPr>
        <p:grpSp>
          <p:nvGrpSpPr>
            <p:cNvPr id="350" name=""/>
            <p:cNvGrpSpPr/>
            <p:nvPr/>
          </p:nvGrpSpPr>
          <p:grpSpPr>
            <a:xfrm>
              <a:off x="4952520" y="5126040"/>
              <a:ext cx="2959560" cy="907560"/>
              <a:chOff x="4952520" y="5126040"/>
              <a:chExt cx="2959560" cy="907560"/>
            </a:xfrm>
          </p:grpSpPr>
          <p:sp>
            <p:nvSpPr>
              <p:cNvPr id="351" name=""/>
              <p:cNvSpPr/>
              <p:nvPr/>
            </p:nvSpPr>
            <p:spPr>
              <a:xfrm>
                <a:off x="5486400" y="5265720"/>
                <a:ext cx="29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78360" y="526572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54880" y="52657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546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069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1596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118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641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168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690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213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740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262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785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5312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78000" y="578628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7454880" y="57862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58532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0055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61581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63104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64627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66153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67676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69199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70725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72248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73771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75297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0708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6512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2136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72200" y="5265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24840" y="5265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8900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3552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9392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3576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8804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5112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9764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25440" y="5432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71960" y="54306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1848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5816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11880" y="541800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8180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39840" y="5418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8636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3288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8516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4356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401960" y="5418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43600" y="512604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53080" y="512604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58000" y="512604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27800" y="512604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0786200">
                <a:off x="4952520" y="581148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 flipH="1">
              <a:off x="5410080" y="57783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666520" y="5397480"/>
            <a:ext cx="2667240" cy="615600"/>
            <a:chOff x="2666520" y="5397480"/>
            <a:chExt cx="2667240" cy="615600"/>
          </a:xfrm>
        </p:grpSpPr>
        <p:sp>
          <p:nvSpPr>
            <p:cNvPr id="411" name=""/>
            <p:cNvSpPr/>
            <p:nvPr/>
          </p:nvSpPr>
          <p:spPr>
            <a:xfrm flipH="1">
              <a:off x="5028840" y="5765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76280" y="5397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2666520" y="5397480"/>
              <a:ext cx="2440440" cy="615600"/>
              <a:chOff x="2666520" y="5397480"/>
              <a:chExt cx="2440440" cy="61560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3123720" y="57657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352320" y="576576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4275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98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7324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8847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40370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1896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3419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44942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46468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47991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49514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51040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299760" y="54118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46280" y="54100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59280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3248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86200" y="5397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05612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1416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606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50720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5948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178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0786200">
                <a:off x="2666520" y="579096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76360" y="68580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638320" y="1600200"/>
            <a:ext cx="2743560" cy="685800"/>
            <a:chOff x="5638320" y="1600200"/>
            <a:chExt cx="2743560" cy="685800"/>
          </a:xfrm>
        </p:grpSpPr>
        <p:grpSp>
          <p:nvGrpSpPr>
            <p:cNvPr id="442" name=""/>
            <p:cNvGrpSpPr/>
            <p:nvPr/>
          </p:nvGrpSpPr>
          <p:grpSpPr>
            <a:xfrm>
              <a:off x="5638320" y="1600200"/>
              <a:ext cx="2743560" cy="685800"/>
              <a:chOff x="5638320" y="1600200"/>
              <a:chExt cx="2743560" cy="685800"/>
            </a:xfrm>
          </p:grpSpPr>
          <p:sp>
            <p:nvSpPr>
              <p:cNvPr id="443" name=""/>
              <p:cNvSpPr/>
              <p:nvPr/>
            </p:nvSpPr>
            <p:spPr>
              <a:xfrm>
                <a:off x="5638680" y="175248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931000" y="17524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07160" y="175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069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596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118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4641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6168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690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9213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0740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2262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785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312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6834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931000" y="227340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7607160" y="2273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0055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1581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63104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64627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66153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67676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69199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0725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72248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73771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75297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76820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5936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174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7364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24840" y="1752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7120" y="1752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64128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8816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9462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8804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24032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034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54992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77720" y="191916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24600" y="1917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7076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1044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64160" y="190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3408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92120" y="1905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3900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8516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23744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39620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554240" y="1905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95880" y="1600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705720" y="1600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10280" y="1600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80440" y="1600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5638320" y="22860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8077320" y="198108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8001000" y="167616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8305920" y="1905120"/>
              <a:ext cx="75960" cy="759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321800" y="1676520"/>
            <a:ext cx="2917080" cy="2025360"/>
            <a:chOff x="4321800" y="1676520"/>
            <a:chExt cx="2917080" cy="2025360"/>
          </a:xfrm>
        </p:grpSpPr>
        <p:grpSp>
          <p:nvGrpSpPr>
            <p:cNvPr id="505" name=""/>
            <p:cNvGrpSpPr/>
            <p:nvPr/>
          </p:nvGrpSpPr>
          <p:grpSpPr>
            <a:xfrm>
              <a:off x="4321800" y="1676520"/>
              <a:ext cx="2917080" cy="1904760"/>
              <a:chOff x="4321800" y="1676520"/>
              <a:chExt cx="2917080" cy="1904760"/>
            </a:xfrm>
          </p:grpSpPr>
          <p:sp>
            <p:nvSpPr>
              <p:cNvPr id="506" name=""/>
              <p:cNvSpPr/>
              <p:nvPr/>
            </p:nvSpPr>
            <p:spPr>
              <a:xfrm>
                <a:off x="4813200" y="289548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05520" y="28954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81680" y="2895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814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41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864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386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913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436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0958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2485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4008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530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057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580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5105520" y="35686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6781680" y="3568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1800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3326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4849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6372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7898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9421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0944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2470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3993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5516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67042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8565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03388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19192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34816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99360" y="2895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651640" y="2895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81580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96268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12072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6256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1484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7792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72444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052240" y="32148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99120" y="3213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34528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8496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38680" y="320040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80860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966640" y="3200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11352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5968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1196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7072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728760" y="3200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70400" y="2743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80240" y="2743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184800" y="2743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654960" y="2743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4812840" y="358128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7268000">
                <a:off x="5215320" y="217548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21800" y="167652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natur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5105520" y="3537000"/>
              <a:ext cx="15228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19920" y="3543480"/>
              <a:ext cx="15228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62600" y="3549600"/>
              <a:ext cx="15264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959520" y="4788000"/>
            <a:ext cx="1828800" cy="711000"/>
          </a:xfrm>
          <a:prstGeom prst="flowChartOffpageConnector">
            <a:avLst/>
          </a:prstGeom>
          <a:solidFill>
            <a:srgbClr val="fafaf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16720" y="2286000"/>
            <a:ext cx="1562040" cy="609480"/>
          </a:xfrm>
          <a:prstGeom prst="flowChartMultidocument">
            <a:avLst/>
          </a:prstGeom>
          <a:solidFill>
            <a:srgbClr val="eeee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30520" y="1854360"/>
            <a:ext cx="533520" cy="380880"/>
          </a:xfrm>
          <a:prstGeom prst="leftArrowCallout">
            <a:avLst>
              <a:gd name="adj1" fmla="val 25002"/>
              <a:gd name="adj2" fmla="val 25000"/>
              <a:gd name="adj3" fmla="val 23346"/>
              <a:gd name="adj4" fmla="val 66673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305240" y="2171880"/>
            <a:ext cx="457200" cy="2996640"/>
            <a:chOff x="4305240" y="2171880"/>
            <a:chExt cx="457200" cy="2996640"/>
          </a:xfrm>
        </p:grpSpPr>
        <p:sp>
          <p:nvSpPr>
            <p:cNvPr id="573" name=""/>
            <p:cNvSpPr/>
            <p:nvPr/>
          </p:nvSpPr>
          <p:spPr>
            <a:xfrm>
              <a:off x="4305240" y="2171880"/>
              <a:ext cx="127080" cy="2996640"/>
            </a:xfrm>
            <a:prstGeom prst="upArrow">
              <a:avLst>
                <a:gd name="adj1" fmla="val 50000"/>
                <a:gd name="adj2" fmla="val 589518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35360" y="2171880"/>
              <a:ext cx="127080" cy="2996640"/>
            </a:xfrm>
            <a:prstGeom prst="upArrow">
              <a:avLst>
                <a:gd name="adj1" fmla="val 50000"/>
                <a:gd name="adj2" fmla="val 589518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294680" y="3517920"/>
            <a:ext cx="123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buClr>
                <a:srgbClr val="00000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90840" y="2730600"/>
            <a:ext cx="1981440" cy="406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tro di emis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2700000">
            <a:off x="3517920" y="3682440"/>
            <a:ext cx="18414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eeeee"/>
              </a:gs>
              <a:gs pos="100000">
                <a:srgbClr val="fafa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chio dicro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5400000">
            <a:off x="2221920" y="4203360"/>
            <a:ext cx="2082960" cy="3812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tro di ecci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84040" y="5378400"/>
            <a:ext cx="1665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iettiv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dens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387520" y="6172200"/>
            <a:ext cx="2806920" cy="317520"/>
          </a:xfrm>
          <a:prstGeom prst="parallelogram">
            <a:avLst>
              <a:gd name="adj" fmla="val 2210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172200"/>
            <a:ext cx="2806920" cy="317520"/>
          </a:xfrm>
          <a:prstGeom prst="parallelogram">
            <a:avLst>
              <a:gd name="adj" fmla="val 221003"/>
            </a:avLst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152960" y="6273720"/>
            <a:ext cx="584280" cy="131760"/>
            <a:chOff x="4152960" y="6273720"/>
            <a:chExt cx="584280" cy="131760"/>
          </a:xfrm>
        </p:grpSpPr>
        <p:sp>
          <p:nvSpPr>
            <p:cNvPr id="588" name=""/>
            <p:cNvSpPr/>
            <p:nvPr/>
          </p:nvSpPr>
          <p:spPr>
            <a:xfrm>
              <a:off x="4152960" y="6273720"/>
              <a:ext cx="279360" cy="42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05240" y="6362640"/>
              <a:ext cx="279360" cy="42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7880" y="6273720"/>
              <a:ext cx="279360" cy="42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019240" y="4057560"/>
            <a:ext cx="863640" cy="540000"/>
          </a:xfrm>
          <a:prstGeom prst="rightArrowCallout">
            <a:avLst>
              <a:gd name="adj1" fmla="val 25002"/>
              <a:gd name="adj2" fmla="val 25000"/>
              <a:gd name="adj3" fmla="val 26656"/>
              <a:gd name="adj4" fmla="val 66667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57600" y="6064200"/>
            <a:ext cx="77760" cy="163440"/>
          </a:xfrm>
          <a:prstGeom prst="downArrow">
            <a:avLst>
              <a:gd name="adj1" fmla="val 50000"/>
              <a:gd name="adj2" fmla="val 5254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5400000">
            <a:off x="812520" y="3720960"/>
            <a:ext cx="1181160" cy="1193760"/>
          </a:xfrm>
          <a:custGeom>
            <a:avLst/>
            <a:gdLst>
              <a:gd name="textAreaLeft" fmla="*/ 259560 w 1181160"/>
              <a:gd name="textAreaRight" fmla="*/ 921600 w 1181160"/>
              <a:gd name="textAreaTop" fmla="*/ 262440 h 1193760"/>
              <a:gd name="textAreaBottom" fmla="*/ 931320 h 119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27000" y="3949560"/>
            <a:ext cx="1346400" cy="749520"/>
          </a:xfrm>
          <a:custGeom>
            <a:avLst/>
            <a:gdLst>
              <a:gd name="textAreaLeft" fmla="*/ 307440 w 1346400"/>
              <a:gd name="textAreaRight" fmla="*/ 1038960 w 1346400"/>
              <a:gd name="textAreaTop" fmla="*/ 171000 h 749520"/>
              <a:gd name="textAreaBottom" fmla="*/ 578520 h 74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89240" y="5175360"/>
            <a:ext cx="749520" cy="863640"/>
          </a:xfrm>
          <a:prstGeom prst="flowChartOffpageConnector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49880" y="5987880"/>
            <a:ext cx="234720" cy="76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0800000">
            <a:off x="4449240" y="6082920"/>
            <a:ext cx="96840" cy="157320"/>
          </a:xfrm>
          <a:prstGeom prst="downArrow">
            <a:avLst>
              <a:gd name="adj1" fmla="val 50000"/>
              <a:gd name="adj2" fmla="val 40613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0800000">
            <a:off x="4373280" y="6089760"/>
            <a:ext cx="96840" cy="156960"/>
          </a:xfrm>
          <a:prstGeom prst="downArrow">
            <a:avLst>
              <a:gd name="adj1" fmla="val 50000"/>
              <a:gd name="adj2" fmla="val 4052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72120" y="6070680"/>
            <a:ext cx="77760" cy="163440"/>
          </a:xfrm>
          <a:prstGeom prst="downArrow">
            <a:avLst>
              <a:gd name="adj1" fmla="val 50000"/>
              <a:gd name="adj2" fmla="val 5254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46480" y="4019400"/>
            <a:ext cx="139680" cy="1136880"/>
          </a:xfrm>
          <a:prstGeom prst="downArrow">
            <a:avLst>
              <a:gd name="adj1" fmla="val 50000"/>
              <a:gd name="adj2" fmla="val 20347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02160" y="4336920"/>
            <a:ext cx="146160" cy="838440"/>
          </a:xfrm>
          <a:prstGeom prst="downArrow">
            <a:avLst>
              <a:gd name="adj1" fmla="val 50000"/>
              <a:gd name="adj2" fmla="val 14341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448080" y="4292640"/>
            <a:ext cx="1168200" cy="101520"/>
          </a:xfrm>
          <a:prstGeom prst="rightArrow">
            <a:avLst>
              <a:gd name="adj1" fmla="val 50000"/>
              <a:gd name="adj2" fmla="val 28767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73280" y="3962520"/>
            <a:ext cx="793800" cy="114120"/>
          </a:xfrm>
          <a:prstGeom prst="rightArrow">
            <a:avLst>
              <a:gd name="adj1" fmla="val 50000"/>
              <a:gd name="adj2" fmla="val 17389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4417560" y="6229440"/>
            <a:ext cx="96840" cy="156960"/>
          </a:xfrm>
          <a:prstGeom prst="downArrow">
            <a:avLst>
              <a:gd name="adj1" fmla="val 50000"/>
              <a:gd name="adj2" fmla="val 4052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64040" y="1727280"/>
            <a:ext cx="851040" cy="495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eeeee"/>
              </a:gs>
              <a:gs pos="50000">
                <a:srgbClr val="808080"/>
              </a:gs>
              <a:gs pos="100000">
                <a:srgbClr val="eeee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788000" y="1854360"/>
            <a:ext cx="558720" cy="380880"/>
          </a:xfrm>
          <a:prstGeom prst="rightArrowCallout">
            <a:avLst>
              <a:gd name="adj1" fmla="val 25002"/>
              <a:gd name="adj2" fmla="val 25000"/>
              <a:gd name="adj3" fmla="val 24449"/>
              <a:gd name="adj4" fmla="val 66667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2920200">
            <a:off x="4751280" y="3157200"/>
            <a:ext cx="2940120" cy="425520"/>
          </a:xfrm>
          <a:custGeom>
            <a:avLst/>
            <a:gdLst>
              <a:gd name="textAreaLeft" fmla="*/ 459360 w 2940120"/>
              <a:gd name="textAreaRight" fmla="*/ 2572560 w 2940120"/>
              <a:gd name="textAreaTop" fmla="*/ 106200 h 425520"/>
              <a:gd name="textAreaBottom" fmla="*/ 319320 h 425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88080" y="2579760"/>
            <a:ext cx="131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ebdings" charset="2"/>
              <a:buChar char="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42040" y="1712880"/>
            <a:ext cx="2141280" cy="380880"/>
          </a:xfrm>
          <a:custGeom>
            <a:avLst/>
            <a:gdLst>
              <a:gd name="textAreaLeft" fmla="*/ 334440 w 2141280"/>
              <a:gd name="textAreaRight" fmla="*/ 1873800 w 2141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559480" y="1039680"/>
            <a:ext cx="131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eb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7721640" y="134604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5"/>
          <a:stretch/>
        </p:blipFill>
        <p:spPr>
          <a:xfrm>
            <a:off x="7632720" y="3860640"/>
            <a:ext cx="660240" cy="4446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7517880" y="2394000"/>
            <a:ext cx="13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tograf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81880" y="267660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CD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7283600">
            <a:off x="2959200" y="1663200"/>
            <a:ext cx="350640" cy="392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7283600">
            <a:off x="2959200" y="1891800"/>
            <a:ext cx="350640" cy="392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7000" y="3205080"/>
            <a:ext cx="2102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mpada a vap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mercu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90840" y="4794120"/>
            <a:ext cx="1820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aborazione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87320" y="723600"/>
            <a:ext cx="77724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602"/>
                </a:solidFill>
                <a:latin typeface="Comic Sans MS"/>
              </a:rPr>
              <a:t>FISH : microscopio a fluoresc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953640" y="1352520"/>
            <a:ext cx="2122920" cy="825120"/>
            <a:chOff x="953640" y="1352520"/>
            <a:chExt cx="2122920" cy="825120"/>
          </a:xfrm>
        </p:grpSpPr>
        <p:sp>
          <p:nvSpPr>
            <p:cNvPr id="621" name=""/>
            <p:cNvSpPr/>
            <p:nvPr/>
          </p:nvSpPr>
          <p:spPr>
            <a:xfrm>
              <a:off x="953640" y="1352520"/>
              <a:ext cx="56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ebdings" charset="2"/>
                <a:buChar char="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36680" y="1655640"/>
              <a:ext cx="1739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sserv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 microscop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2886120" y="1371600"/>
            <a:ext cx="5419800" cy="54180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259200" y="2514600"/>
            <a:ext cx="251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omoso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denatur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colorati con D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: metafase in D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835280" y="1433520"/>
            <a:ext cx="5348160" cy="53481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123720" y="68544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: segna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352600" y="1362240"/>
            <a:ext cx="5419800" cy="541944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80920" y="761760"/>
            <a:ext cx="2514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: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71000" y="1328760"/>
            <a:ext cx="57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Allestimento della coltur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1640" y="242244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Preparazione dei vet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280" y="35323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Colorazione del preparato con colorazioni differenziali di 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5099040"/>
            <a:ext cx="906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) Osservazione al microscopio, selezione delle metafasi e acquisizione delle immag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si de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3513240" y="2341440"/>
            <a:ext cx="361800" cy="1753920"/>
            <a:chOff x="3513240" y="2341440"/>
            <a:chExt cx="361800" cy="1753920"/>
          </a:xfrm>
        </p:grpSpPr>
        <p:sp>
          <p:nvSpPr>
            <p:cNvPr id="656" name=""/>
            <p:cNvSpPr/>
            <p:nvPr/>
          </p:nvSpPr>
          <p:spPr>
            <a:xfrm>
              <a:off x="3556080" y="2342880"/>
              <a:ext cx="298440" cy="1752480"/>
            </a:xfrm>
            <a:prstGeom prst="can">
              <a:avLst>
                <a:gd name="adj" fmla="val 1449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56080" y="2463480"/>
              <a:ext cx="298440" cy="292320"/>
            </a:xfrm>
            <a:prstGeom prst="can">
              <a:avLst>
                <a:gd name="adj" fmla="val 1449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13240" y="2341440"/>
              <a:ext cx="361800" cy="16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494320" y="2290680"/>
            <a:ext cx="361800" cy="1753920"/>
            <a:chOff x="5494320" y="2290680"/>
            <a:chExt cx="361800" cy="1753920"/>
          </a:xfrm>
        </p:grpSpPr>
        <p:sp>
          <p:nvSpPr>
            <p:cNvPr id="660" name=""/>
            <p:cNvSpPr/>
            <p:nvPr/>
          </p:nvSpPr>
          <p:spPr>
            <a:xfrm>
              <a:off x="5537160" y="2292120"/>
              <a:ext cx="298440" cy="1752480"/>
            </a:xfrm>
            <a:prstGeom prst="can">
              <a:avLst>
                <a:gd name="adj" fmla="val 1449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37160" y="2387520"/>
              <a:ext cx="298440" cy="1428480"/>
            </a:xfrm>
            <a:prstGeom prst="can">
              <a:avLst>
                <a:gd name="adj" fmla="val 5810"/>
              </a:avLst>
            </a:prstGeom>
            <a:solidFill>
              <a:srgbClr val="ffd1d1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94320" y="2290680"/>
              <a:ext cx="361800" cy="16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8369280" y="2252520"/>
            <a:ext cx="361800" cy="1754280"/>
            <a:chOff x="8369280" y="2252520"/>
            <a:chExt cx="361800" cy="1754280"/>
          </a:xfrm>
        </p:grpSpPr>
        <p:sp>
          <p:nvSpPr>
            <p:cNvPr id="664" name=""/>
            <p:cNvSpPr/>
            <p:nvPr/>
          </p:nvSpPr>
          <p:spPr>
            <a:xfrm>
              <a:off x="8412120" y="2253960"/>
              <a:ext cx="298440" cy="1752840"/>
            </a:xfrm>
            <a:prstGeom prst="can">
              <a:avLst>
                <a:gd name="adj" fmla="val 1449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12120" y="2349360"/>
              <a:ext cx="298440" cy="1428840"/>
            </a:xfrm>
            <a:prstGeom prst="can">
              <a:avLst>
                <a:gd name="adj" fmla="val 5810"/>
              </a:avLst>
            </a:prstGeom>
            <a:solidFill>
              <a:srgbClr val="ff6b68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369280" y="2252520"/>
              <a:ext cx="361800" cy="16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9200" y="4597560"/>
            <a:ext cx="361800" cy="1753920"/>
            <a:chOff x="79200" y="4597560"/>
            <a:chExt cx="361800" cy="1753920"/>
          </a:xfrm>
        </p:grpSpPr>
        <p:sp>
          <p:nvSpPr>
            <p:cNvPr id="668" name=""/>
            <p:cNvSpPr/>
            <p:nvPr/>
          </p:nvSpPr>
          <p:spPr>
            <a:xfrm>
              <a:off x="122040" y="4599000"/>
              <a:ext cx="298440" cy="1752480"/>
            </a:xfrm>
            <a:prstGeom prst="can">
              <a:avLst>
                <a:gd name="adj" fmla="val 1449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2040" y="4694400"/>
              <a:ext cx="298440" cy="1428480"/>
            </a:xfrm>
            <a:prstGeom prst="can">
              <a:avLst>
                <a:gd name="adj" fmla="val 581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9200" y="4597560"/>
              <a:ext cx="361800" cy="169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146640" y="4440960"/>
            <a:ext cx="2933640" cy="1629360"/>
            <a:chOff x="6146640" y="4440960"/>
            <a:chExt cx="2933640" cy="1629360"/>
          </a:xfrm>
        </p:grpSpPr>
        <p:sp>
          <p:nvSpPr>
            <p:cNvPr id="672" name=""/>
            <p:cNvSpPr/>
            <p:nvPr/>
          </p:nvSpPr>
          <p:spPr>
            <a:xfrm>
              <a:off x="6667200" y="5752800"/>
              <a:ext cx="2413080" cy="317520"/>
            </a:xfrm>
            <a:prstGeom prst="parallelogram">
              <a:avLst>
                <a:gd name="adj" fmla="val 189994"/>
              </a:avLst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46640" y="5752800"/>
              <a:ext cx="2413080" cy="317520"/>
            </a:xfrm>
            <a:prstGeom prst="parallelogram">
              <a:avLst>
                <a:gd name="adj" fmla="val 189994"/>
              </a:avLst>
            </a:prstGeom>
            <a:solidFill>
              <a:srgbClr val="f0f0f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rot="1638000">
              <a:off x="8387640" y="4722120"/>
              <a:ext cx="82440" cy="774720"/>
            </a:xfrm>
            <a:prstGeom prst="can">
              <a:avLst>
                <a:gd name="adj" fmla="val 3384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37400">
              <a:off x="8569080" y="4460400"/>
              <a:ext cx="177840" cy="379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37400">
              <a:off x="8486280" y="4807800"/>
              <a:ext cx="82440" cy="236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13600" y="5499000"/>
              <a:ext cx="63360" cy="75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04040" y="5486040"/>
              <a:ext cx="63360" cy="763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27720" y="5600520"/>
              <a:ext cx="63720" cy="759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24680" y="5549760"/>
              <a:ext cx="63360" cy="759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76960" y="5752800"/>
              <a:ext cx="63720" cy="7632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62840" y="5625720"/>
              <a:ext cx="63360" cy="763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48360" y="5905080"/>
              <a:ext cx="63720" cy="763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41920" y="5829120"/>
              <a:ext cx="63720" cy="7596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65960" y="5879880"/>
              <a:ext cx="63360" cy="763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7920" y="5829120"/>
              <a:ext cx="63360" cy="7596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032680" y="5581440"/>
              <a:ext cx="63360" cy="7596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5000" y="5790960"/>
              <a:ext cx="63360" cy="763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24680" y="5790960"/>
              <a:ext cx="63360" cy="7632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26240" y="5924160"/>
              <a:ext cx="63360" cy="7632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19800" y="5848200"/>
              <a:ext cx="63360" cy="7596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43480" y="5898960"/>
              <a:ext cx="63720" cy="7596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35800" y="5848200"/>
              <a:ext cx="63360" cy="7596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62520" y="5810040"/>
              <a:ext cx="63720" cy="7596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02560" y="5810040"/>
              <a:ext cx="63360" cy="7596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27080" y="1968480"/>
            <a:ext cx="1842840" cy="2203200"/>
            <a:chOff x="127080" y="1968480"/>
            <a:chExt cx="1842840" cy="2203200"/>
          </a:xfrm>
        </p:grpSpPr>
        <p:grpSp>
          <p:nvGrpSpPr>
            <p:cNvPr id="697" name=""/>
            <p:cNvGrpSpPr/>
            <p:nvPr/>
          </p:nvGrpSpPr>
          <p:grpSpPr>
            <a:xfrm>
              <a:off x="1608120" y="2417760"/>
              <a:ext cx="361800" cy="1753920"/>
              <a:chOff x="1608120" y="2417760"/>
              <a:chExt cx="361800" cy="1753920"/>
            </a:xfrm>
          </p:grpSpPr>
          <p:sp>
            <p:nvSpPr>
              <p:cNvPr id="698" name=""/>
              <p:cNvSpPr/>
              <p:nvPr/>
            </p:nvSpPr>
            <p:spPr>
              <a:xfrm>
                <a:off x="1650600" y="2419200"/>
                <a:ext cx="29808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50600" y="2539800"/>
                <a:ext cx="298080" cy="29232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08120" y="2417760"/>
                <a:ext cx="36180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244520" y="2324160"/>
              <a:ext cx="49536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9680" y="1968480"/>
              <a:ext cx="1117800" cy="44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an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erife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7080" y="3581280"/>
              <a:ext cx="1307880" cy="5842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rreno 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l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008800" y="2892600"/>
            <a:ext cx="1506600" cy="765000"/>
            <a:chOff x="2008800" y="2892600"/>
            <a:chExt cx="1506600" cy="765000"/>
          </a:xfrm>
        </p:grpSpPr>
        <p:sp>
          <p:nvSpPr>
            <p:cNvPr id="705" name=""/>
            <p:cNvSpPr/>
            <p:nvPr/>
          </p:nvSpPr>
          <p:spPr>
            <a:xfrm>
              <a:off x="2095560" y="3174840"/>
              <a:ext cx="1066680" cy="48276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120600 h 482760"/>
                <a:gd name="textAreaBottom" fmla="*/ 36216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4911"/>
                </a:gs>
                <a:gs pos="100000">
                  <a:srgbClr val="f6fa0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8-96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08800" y="289260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olifer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63760" y="1320840"/>
            <a:ext cx="1486080" cy="1079640"/>
            <a:chOff x="3263760" y="1320840"/>
            <a:chExt cx="1486080" cy="1079640"/>
          </a:xfrm>
        </p:grpSpPr>
        <p:sp>
          <p:nvSpPr>
            <p:cNvPr id="708" name=""/>
            <p:cNvSpPr/>
            <p:nvPr/>
          </p:nvSpPr>
          <p:spPr>
            <a:xfrm flipV="1">
              <a:off x="3720960" y="1930320"/>
              <a:ext cx="0" cy="4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63760" y="1320840"/>
              <a:ext cx="1486080" cy="57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lchic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ultimi 30’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2960" y="2892600"/>
            <a:ext cx="1669680" cy="384120"/>
            <a:chOff x="3882960" y="2892600"/>
            <a:chExt cx="1669680" cy="384120"/>
          </a:xfrm>
        </p:grpSpPr>
        <p:sp>
          <p:nvSpPr>
            <p:cNvPr id="711" name=""/>
            <p:cNvSpPr/>
            <p:nvPr/>
          </p:nvSpPr>
          <p:spPr>
            <a:xfrm>
              <a:off x="3882960" y="2892600"/>
              <a:ext cx="166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entrifug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36960" y="3276720"/>
              <a:ext cx="133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5780520" y="3906720"/>
            <a:ext cx="982440" cy="456120"/>
            <a:chOff x="5780520" y="3906720"/>
            <a:chExt cx="982440" cy="456120"/>
          </a:xfrm>
        </p:grpSpPr>
        <p:sp>
          <p:nvSpPr>
            <p:cNvPr id="714" name=""/>
            <p:cNvSpPr/>
            <p:nvPr/>
          </p:nvSpPr>
          <p:spPr>
            <a:xfrm>
              <a:off x="5867280" y="393696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80520" y="3906720"/>
              <a:ext cx="9824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el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isosp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753160" y="1346040"/>
            <a:ext cx="1650960" cy="2673000"/>
            <a:chOff x="5753160" y="1346040"/>
            <a:chExt cx="1650960" cy="2673000"/>
          </a:xfrm>
        </p:grpSpPr>
        <p:grpSp>
          <p:nvGrpSpPr>
            <p:cNvPr id="717" name=""/>
            <p:cNvGrpSpPr/>
            <p:nvPr/>
          </p:nvGrpSpPr>
          <p:grpSpPr>
            <a:xfrm>
              <a:off x="6459480" y="2265480"/>
              <a:ext cx="362160" cy="1753560"/>
              <a:chOff x="6459480" y="2265480"/>
              <a:chExt cx="362160" cy="1753560"/>
            </a:xfrm>
          </p:grpSpPr>
          <p:sp>
            <p:nvSpPr>
              <p:cNvPr id="718" name=""/>
              <p:cNvSpPr/>
              <p:nvPr/>
            </p:nvSpPr>
            <p:spPr>
              <a:xfrm>
                <a:off x="6502320" y="226656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502320" y="2387520"/>
                <a:ext cx="298440" cy="29160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459480" y="2265480"/>
                <a:ext cx="362160" cy="169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6591240" y="1727280"/>
              <a:ext cx="0" cy="62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53160" y="1346040"/>
              <a:ext cx="1650960" cy="36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potonica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20’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778800" y="2841480"/>
            <a:ext cx="1669680" cy="486000"/>
            <a:chOff x="6778800" y="2841480"/>
            <a:chExt cx="1669680" cy="486000"/>
          </a:xfrm>
        </p:grpSpPr>
        <p:sp>
          <p:nvSpPr>
            <p:cNvPr id="724" name=""/>
            <p:cNvSpPr/>
            <p:nvPr/>
          </p:nvSpPr>
          <p:spPr>
            <a:xfrm>
              <a:off x="6778800" y="2841480"/>
              <a:ext cx="166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entrifug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32440" y="3327480"/>
              <a:ext cx="1333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54240" y="5918040"/>
            <a:ext cx="982440" cy="456120"/>
            <a:chOff x="354240" y="5918040"/>
            <a:chExt cx="982440" cy="456120"/>
          </a:xfrm>
        </p:grpSpPr>
        <p:sp>
          <p:nvSpPr>
            <p:cNvPr id="727" name=""/>
            <p:cNvSpPr/>
            <p:nvPr/>
          </p:nvSpPr>
          <p:spPr>
            <a:xfrm>
              <a:off x="354240" y="5918040"/>
              <a:ext cx="9824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el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isosp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0560" y="621036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1640" y="4452840"/>
            <a:ext cx="1389240" cy="1892520"/>
            <a:chOff x="431640" y="4452840"/>
            <a:chExt cx="1389240" cy="1892520"/>
          </a:xfrm>
        </p:grpSpPr>
        <p:grpSp>
          <p:nvGrpSpPr>
            <p:cNvPr id="730" name=""/>
            <p:cNvGrpSpPr/>
            <p:nvPr/>
          </p:nvGrpSpPr>
          <p:grpSpPr>
            <a:xfrm>
              <a:off x="1459080" y="4591080"/>
              <a:ext cx="361800" cy="1754280"/>
              <a:chOff x="1459080" y="4591080"/>
              <a:chExt cx="361800" cy="1754280"/>
            </a:xfrm>
          </p:grpSpPr>
          <p:sp>
            <p:nvSpPr>
              <p:cNvPr id="731" name=""/>
              <p:cNvSpPr/>
              <p:nvPr/>
            </p:nvSpPr>
            <p:spPr>
              <a:xfrm>
                <a:off x="1501560" y="4592880"/>
                <a:ext cx="29808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7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501560" y="4713480"/>
                <a:ext cx="298080" cy="29196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459080" y="4591080"/>
                <a:ext cx="36180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852480" y="4452840"/>
              <a:ext cx="722160" cy="677880"/>
            </a:xfrm>
            <a:custGeom>
              <a:avLst/>
              <a:gdLst/>
              <a:ahLst/>
              <a:rect l="l" t="t" r="r" b="b"/>
              <a:pathLst>
                <a:path w="439" h="371">
                  <a:moveTo>
                    <a:pt x="63" y="371"/>
                  </a:moveTo>
                  <a:cubicBezTo>
                    <a:pt x="31" y="228"/>
                    <a:pt x="0" y="86"/>
                    <a:pt x="63" y="43"/>
                  </a:cubicBezTo>
                  <a:cubicBezTo>
                    <a:pt x="126" y="0"/>
                    <a:pt x="380" y="103"/>
                    <a:pt x="439" y="115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1640" y="5143680"/>
              <a:ext cx="102888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ss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915200" y="6283440"/>
            <a:ext cx="2079720" cy="358560"/>
            <a:chOff x="1915200" y="6283440"/>
            <a:chExt cx="2079720" cy="358560"/>
          </a:xfrm>
        </p:grpSpPr>
        <p:sp>
          <p:nvSpPr>
            <p:cNvPr id="737" name=""/>
            <p:cNvSpPr/>
            <p:nvPr/>
          </p:nvSpPr>
          <p:spPr>
            <a:xfrm>
              <a:off x="1915200" y="6283440"/>
              <a:ext cx="20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entrifugazioni (2-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55880" y="6642000"/>
              <a:ext cx="133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941480" y="4529160"/>
            <a:ext cx="1724040" cy="1862280"/>
            <a:chOff x="1941480" y="4529160"/>
            <a:chExt cx="1724040" cy="1862280"/>
          </a:xfrm>
        </p:grpSpPr>
        <p:grpSp>
          <p:nvGrpSpPr>
            <p:cNvPr id="740" name=""/>
            <p:cNvGrpSpPr/>
            <p:nvPr/>
          </p:nvGrpSpPr>
          <p:grpSpPr>
            <a:xfrm>
              <a:off x="1941480" y="4597560"/>
              <a:ext cx="361800" cy="1753920"/>
              <a:chOff x="1941480" y="4597560"/>
              <a:chExt cx="361800" cy="1753920"/>
            </a:xfrm>
          </p:grpSpPr>
          <p:sp>
            <p:nvSpPr>
              <p:cNvPr id="741" name=""/>
              <p:cNvSpPr/>
              <p:nvPr/>
            </p:nvSpPr>
            <p:spPr>
              <a:xfrm>
                <a:off x="1984320" y="459900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984320" y="4694400"/>
                <a:ext cx="298440" cy="1428480"/>
              </a:xfrm>
              <a:prstGeom prst="can">
                <a:avLst>
                  <a:gd name="adj" fmla="val 581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941480" y="4597560"/>
                <a:ext cx="361800" cy="169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3303720" y="4637160"/>
              <a:ext cx="361800" cy="1754280"/>
              <a:chOff x="3303720" y="4637160"/>
              <a:chExt cx="361800" cy="1754280"/>
            </a:xfrm>
          </p:grpSpPr>
          <p:sp>
            <p:nvSpPr>
              <p:cNvPr id="745" name=""/>
              <p:cNvSpPr/>
              <p:nvPr/>
            </p:nvSpPr>
            <p:spPr>
              <a:xfrm>
                <a:off x="3346560" y="463896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6560" y="4759560"/>
                <a:ext cx="298440" cy="29196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03720" y="4637160"/>
                <a:ext cx="36180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2706840" y="4529160"/>
              <a:ext cx="823680" cy="563400"/>
            </a:xfrm>
            <a:custGeom>
              <a:avLst/>
              <a:gdLst/>
              <a:ahLst/>
              <a:rect l="l" t="t" r="r" b="b"/>
              <a:pathLst>
                <a:path w="439" h="371">
                  <a:moveTo>
                    <a:pt x="63" y="371"/>
                  </a:moveTo>
                  <a:cubicBezTo>
                    <a:pt x="31" y="228"/>
                    <a:pt x="0" y="86"/>
                    <a:pt x="63" y="43"/>
                  </a:cubicBezTo>
                  <a:cubicBezTo>
                    <a:pt x="126" y="0"/>
                    <a:pt x="380" y="103"/>
                    <a:pt x="439" y="115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86000" y="5105520"/>
              <a:ext cx="102888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ss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751200" y="4648320"/>
            <a:ext cx="2325600" cy="1774800"/>
            <a:chOff x="3751200" y="4648320"/>
            <a:chExt cx="2325600" cy="1774800"/>
          </a:xfrm>
        </p:grpSpPr>
        <p:grpSp>
          <p:nvGrpSpPr>
            <p:cNvPr id="751" name=""/>
            <p:cNvGrpSpPr/>
            <p:nvPr/>
          </p:nvGrpSpPr>
          <p:grpSpPr>
            <a:xfrm>
              <a:off x="3751200" y="4668840"/>
              <a:ext cx="362160" cy="1754280"/>
              <a:chOff x="3751200" y="4668840"/>
              <a:chExt cx="362160" cy="1754280"/>
            </a:xfrm>
          </p:grpSpPr>
          <p:sp>
            <p:nvSpPr>
              <p:cNvPr id="752" name=""/>
              <p:cNvSpPr/>
              <p:nvPr/>
            </p:nvSpPr>
            <p:spPr>
              <a:xfrm>
                <a:off x="3794040" y="467064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794040" y="4765680"/>
                <a:ext cx="298440" cy="1428840"/>
              </a:xfrm>
              <a:prstGeom prst="can">
                <a:avLst>
                  <a:gd name="adj" fmla="val 581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751200" y="4668840"/>
                <a:ext cx="36216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5715000" y="4648320"/>
              <a:ext cx="361800" cy="1753560"/>
              <a:chOff x="5715000" y="4648320"/>
              <a:chExt cx="361800" cy="1753560"/>
            </a:xfrm>
          </p:grpSpPr>
          <p:sp>
            <p:nvSpPr>
              <p:cNvPr id="756" name=""/>
              <p:cNvSpPr/>
              <p:nvPr/>
            </p:nvSpPr>
            <p:spPr>
              <a:xfrm>
                <a:off x="5757480" y="4649400"/>
                <a:ext cx="29808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31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757480" y="4744800"/>
                <a:ext cx="298080" cy="1147320"/>
              </a:xfrm>
              <a:prstGeom prst="can">
                <a:avLst>
                  <a:gd name="adj" fmla="val 581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15000" y="4648320"/>
                <a:ext cx="361800" cy="169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4140360" y="4692600"/>
              <a:ext cx="156204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sospens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 poc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ssativo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29280" y="6076800"/>
              <a:ext cx="133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6134040" y="4622760"/>
            <a:ext cx="2171880" cy="1587600"/>
            <a:chOff x="6134040" y="4622760"/>
            <a:chExt cx="2171880" cy="1587600"/>
          </a:xfrm>
        </p:grpSpPr>
        <p:sp>
          <p:nvSpPr>
            <p:cNvPr id="762" name=""/>
            <p:cNvSpPr/>
            <p:nvPr/>
          </p:nvSpPr>
          <p:spPr>
            <a:xfrm>
              <a:off x="6311880" y="4622760"/>
              <a:ext cx="1994040" cy="66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estimento 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epar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34040" y="6210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4" name="" descr=""/>
          <p:cNvPicPr/>
          <p:nvPr/>
        </p:nvPicPr>
        <p:blipFill>
          <a:blip r:embed="rId3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llestimento del prepa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914400" y="1295280"/>
            <a:ext cx="2095560" cy="1206720"/>
            <a:chOff x="914400" y="1295280"/>
            <a:chExt cx="2095560" cy="1206720"/>
          </a:xfrm>
        </p:grpSpPr>
        <p:sp>
          <p:nvSpPr>
            <p:cNvPr id="771" name=""/>
            <p:cNvSpPr/>
            <p:nvPr/>
          </p:nvSpPr>
          <p:spPr>
            <a:xfrm>
              <a:off x="914400" y="1295280"/>
              <a:ext cx="20955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toemoaggluti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stimola la crescit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790280" y="1816200"/>
              <a:ext cx="381240" cy="685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404280" y="1600200"/>
            <a:ext cx="5725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) Allestimento della coltura</a:t>
            </a:r>
            <a:r>
              <a:rPr b="0" lang="en-US" sz="32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94920" y="2362320"/>
            <a:ext cx="5193000" cy="581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2) Preparazione dei vet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34160" y="30481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) Colorazione del preparato c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lorazioni differenziali di rout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9280" y="4419720"/>
            <a:ext cx="85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 Osservazione al microscopi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ezione delle metafasi e acquisi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lle imma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si de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81240" y="1447920"/>
            <a:ext cx="81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Colorazione del preparato con colorazioni differenziali di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280" y="28195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luorocromi: Q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DAPI. Necessario un microscop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 fluresc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267080" y="2209680"/>
            <a:ext cx="4724640" cy="4262400"/>
            <a:chOff x="4267080" y="2209680"/>
            <a:chExt cx="4724640" cy="4262400"/>
          </a:xfrm>
        </p:grpSpPr>
        <p:pic>
          <p:nvPicPr>
            <p:cNvPr id="786" name="" descr=""/>
            <p:cNvPicPr/>
            <p:nvPr/>
          </p:nvPicPr>
          <p:blipFill>
            <a:blip r:embed="rId1"/>
            <a:stretch/>
          </p:blipFill>
          <p:spPr>
            <a:xfrm>
              <a:off x="4267080" y="2209680"/>
              <a:ext cx="4724640" cy="42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7701840" y="4665600"/>
              <a:ext cx="317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241040" y="2217600"/>
              <a:ext cx="0" cy="324000"/>
            </a:xfrm>
            <a:prstGeom prst="line">
              <a:avLst/>
            </a:prstGeom>
            <a:ln w="28440">
              <a:solidFill>
                <a:srgbClr val="fe2c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123720" y="685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lorazione Q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23040" y="2854440"/>
            <a:ext cx="236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G-banding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Giemsa do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tratta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con trip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1240" y="1066680"/>
            <a:ext cx="81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Colorazione del preparato con colorazioni differenziali di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2324160" y="1409760"/>
            <a:ext cx="6743520" cy="537192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3505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lorazione Giem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9520" y="96696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29200" y="2146320"/>
            <a:ext cx="3743280" cy="3187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69920" y="2222640"/>
            <a:ext cx="1596960" cy="612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371760" y="2319480"/>
            <a:ext cx="94464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069920" y="3141720"/>
            <a:ext cx="3498840" cy="50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1069920" y="3868560"/>
            <a:ext cx="1209600" cy="490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3249720" y="3922560"/>
            <a:ext cx="1184040" cy="412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1130400" y="4630680"/>
            <a:ext cx="796680" cy="292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019320" y="4600440"/>
            <a:ext cx="1382760" cy="266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30400" y="2854440"/>
            <a:ext cx="14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71760" y="285444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0400" y="3686040"/>
            <a:ext cx="342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30400" y="4281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09840" y="427680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89080" y="4916520"/>
            <a:ext cx="70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78000" y="4925880"/>
            <a:ext cx="123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7400" y="279576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-3 grupp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1640" y="279576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-5 grup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60320" y="3627360"/>
            <a:ext cx="17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-6-12 grup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7400" y="421164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3-15 grup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1360" y="42181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6-18 gruppo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680" y="486720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-20 grupp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51840" y="48798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-21-22 gruppo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2560" y="2146320"/>
            <a:ext cx="3659040" cy="318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66880" y="9140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ariotipi a confro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04280" y="1600200"/>
            <a:ext cx="5725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) Allestimento della coltura</a:t>
            </a:r>
            <a:r>
              <a:rPr b="0" lang="en-US" sz="32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4920" y="2362320"/>
            <a:ext cx="5193000" cy="581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2) Preparazione dei vet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9480" y="3103560"/>
            <a:ext cx="65890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3) Colorazione del preparato c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olorazioni differenziali di 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9280" y="4419720"/>
            <a:ext cx="85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 Osservazione al microscopi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ezione delle metafasi e acquisi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lle imma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si de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5639040" cy="563868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44440" y="1644480"/>
            <a:ext cx="283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Otti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ma…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1066680"/>
            <a:ext cx="3657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Puo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esse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anche cosi’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342900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6320" y="3809880"/>
            <a:ext cx="327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romosomi non ben riconoscibili, difficili anche 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b02"/>
                </a:solidFill>
                <a:latin typeface="Comic Sans MS"/>
              </a:rPr>
              <a:t>Scartare!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b02"/>
                </a:solidFill>
                <a:latin typeface="Comic Sans MS"/>
              </a:rPr>
              <a:t>(potend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5562360" cy="556236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12193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.. O cosi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666520" y="6858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5160" y="2362320"/>
            <a:ext cx="321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Troppo contra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ero’ si puo’ us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er contar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cartare! </a:t>
            </a: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(poten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3886200" y="1549440"/>
            <a:ext cx="5232240" cy="523224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1444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21932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b02"/>
                </a:solidFill>
                <a:latin typeface="Comic Sans MS"/>
              </a:rPr>
              <a:t>Suf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1600" y="2152800"/>
            <a:ext cx="402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con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uo’ essere utile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zzare i cromos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non sovrapp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76320" y="12193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Discre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5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79640" y="2362320"/>
            <a:ext cx="301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, e 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 ci sono alc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ovrapposizio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zz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733920" y="761760"/>
            <a:ext cx="5029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632040" y="132084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962160" y="6858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320" y="12193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Buo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2600" y="2362320"/>
            <a:ext cx="3012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, e 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 ci sono alc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ovrapposizio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la morfologia d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romosomi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bu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52280" y="1905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SI CONTANO I CROMOSOMI : IMPORTANTE PER SOSPETTARE LA PRESENZA DI ALTERAZIONI NEL NUMERO CROMOSO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00080" y="3886200"/>
            <a:ext cx="83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SI APPAIANO GLI OMOLOGHI PER SIMILAR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5400" y="5121360"/>
            <a:ext cx="90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SI METTONO IN ORDINE SECONDO LA CON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362320" y="761760"/>
            <a:ext cx="4419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me si fa il carioti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3295800" y="990720"/>
            <a:ext cx="5790960" cy="579096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7156440" y="1262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1520" y="5224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3956040" y="1371600"/>
            <a:ext cx="4610160" cy="4749840"/>
            <a:chOff x="3956040" y="1371600"/>
            <a:chExt cx="4610160" cy="4749840"/>
          </a:xfrm>
        </p:grpSpPr>
        <p:sp>
          <p:nvSpPr>
            <p:cNvPr id="880" name=""/>
            <p:cNvSpPr/>
            <p:nvPr/>
          </p:nvSpPr>
          <p:spPr>
            <a:xfrm>
              <a:off x="5124240" y="1371600"/>
              <a:ext cx="3441960" cy="2662200"/>
            </a:xfrm>
            <a:custGeom>
              <a:avLst/>
              <a:gdLst/>
              <a:ahLst/>
              <a:rect l="l" t="t" r="r" b="b"/>
              <a:pathLst>
                <a:path w="2168" h="1677">
                  <a:moveTo>
                    <a:pt x="0" y="0"/>
                  </a:moveTo>
                  <a:cubicBezTo>
                    <a:pt x="67" y="101"/>
                    <a:pt x="134" y="198"/>
                    <a:pt x="208" y="296"/>
                  </a:cubicBezTo>
                  <a:cubicBezTo>
                    <a:pt x="232" y="369"/>
                    <a:pt x="295" y="421"/>
                    <a:pt x="320" y="496"/>
                  </a:cubicBezTo>
                  <a:cubicBezTo>
                    <a:pt x="336" y="545"/>
                    <a:pt x="342" y="612"/>
                    <a:pt x="368" y="656"/>
                  </a:cubicBezTo>
                  <a:cubicBezTo>
                    <a:pt x="388" y="690"/>
                    <a:pt x="416" y="740"/>
                    <a:pt x="440" y="776"/>
                  </a:cubicBezTo>
                  <a:cubicBezTo>
                    <a:pt x="452" y="826"/>
                    <a:pt x="481" y="861"/>
                    <a:pt x="520" y="896"/>
                  </a:cubicBezTo>
                  <a:cubicBezTo>
                    <a:pt x="541" y="914"/>
                    <a:pt x="555" y="912"/>
                    <a:pt x="576" y="936"/>
                  </a:cubicBezTo>
                  <a:cubicBezTo>
                    <a:pt x="611" y="976"/>
                    <a:pt x="615" y="1004"/>
                    <a:pt x="624" y="1056"/>
                  </a:cubicBezTo>
                  <a:cubicBezTo>
                    <a:pt x="618" y="1141"/>
                    <a:pt x="610" y="1213"/>
                    <a:pt x="600" y="1296"/>
                  </a:cubicBezTo>
                  <a:cubicBezTo>
                    <a:pt x="602" y="1317"/>
                    <a:pt x="595" y="1342"/>
                    <a:pt x="608" y="1360"/>
                  </a:cubicBezTo>
                  <a:cubicBezTo>
                    <a:pt x="617" y="1373"/>
                    <a:pt x="640" y="1370"/>
                    <a:pt x="656" y="1376"/>
                  </a:cubicBezTo>
                  <a:cubicBezTo>
                    <a:pt x="713" y="1395"/>
                    <a:pt x="774" y="1396"/>
                    <a:pt x="832" y="1416"/>
                  </a:cubicBezTo>
                  <a:cubicBezTo>
                    <a:pt x="890" y="1474"/>
                    <a:pt x="815" y="1405"/>
                    <a:pt x="896" y="1456"/>
                  </a:cubicBezTo>
                  <a:cubicBezTo>
                    <a:pt x="931" y="1478"/>
                    <a:pt x="914" y="1500"/>
                    <a:pt x="968" y="1512"/>
                  </a:cubicBezTo>
                  <a:cubicBezTo>
                    <a:pt x="1088" y="1538"/>
                    <a:pt x="1207" y="1573"/>
                    <a:pt x="1328" y="1600"/>
                  </a:cubicBezTo>
                  <a:cubicBezTo>
                    <a:pt x="1569" y="1653"/>
                    <a:pt x="1402" y="1635"/>
                    <a:pt x="1632" y="1648"/>
                  </a:cubicBezTo>
                  <a:cubicBezTo>
                    <a:pt x="1719" y="1677"/>
                    <a:pt x="1814" y="1668"/>
                    <a:pt x="1904" y="1656"/>
                  </a:cubicBezTo>
                  <a:cubicBezTo>
                    <a:pt x="1961" y="1636"/>
                    <a:pt x="1993" y="1564"/>
                    <a:pt x="2048" y="1528"/>
                  </a:cubicBezTo>
                  <a:cubicBezTo>
                    <a:pt x="2077" y="1483"/>
                    <a:pt x="2049" y="1518"/>
                    <a:pt x="2112" y="1472"/>
                  </a:cubicBezTo>
                  <a:cubicBezTo>
                    <a:pt x="2122" y="1464"/>
                    <a:pt x="2132" y="1454"/>
                    <a:pt x="2144" y="1448"/>
                  </a:cubicBezTo>
                  <a:cubicBezTo>
                    <a:pt x="2151" y="1443"/>
                    <a:pt x="2168" y="1440"/>
                    <a:pt x="2168" y="144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29160" y="3530520"/>
              <a:ext cx="1155600" cy="2590920"/>
            </a:xfrm>
            <a:custGeom>
              <a:avLst/>
              <a:gdLst/>
              <a:ahLst/>
              <a:rect l="l" t="t" r="r" b="b"/>
              <a:pathLst>
                <a:path w="728" h="1632">
                  <a:moveTo>
                    <a:pt x="384" y="0"/>
                  </a:moveTo>
                  <a:cubicBezTo>
                    <a:pt x="377" y="100"/>
                    <a:pt x="368" y="198"/>
                    <a:pt x="344" y="296"/>
                  </a:cubicBezTo>
                  <a:cubicBezTo>
                    <a:pt x="332" y="450"/>
                    <a:pt x="345" y="353"/>
                    <a:pt x="328" y="432"/>
                  </a:cubicBezTo>
                  <a:cubicBezTo>
                    <a:pt x="325" y="445"/>
                    <a:pt x="328" y="461"/>
                    <a:pt x="320" y="472"/>
                  </a:cubicBezTo>
                  <a:cubicBezTo>
                    <a:pt x="287" y="513"/>
                    <a:pt x="238" y="502"/>
                    <a:pt x="200" y="528"/>
                  </a:cubicBezTo>
                  <a:cubicBezTo>
                    <a:pt x="166" y="550"/>
                    <a:pt x="184" y="539"/>
                    <a:pt x="144" y="560"/>
                  </a:cubicBezTo>
                  <a:cubicBezTo>
                    <a:pt x="84" y="639"/>
                    <a:pt x="31" y="712"/>
                    <a:pt x="0" y="808"/>
                  </a:cubicBezTo>
                  <a:cubicBezTo>
                    <a:pt x="13" y="826"/>
                    <a:pt x="23" y="847"/>
                    <a:pt x="40" y="864"/>
                  </a:cubicBezTo>
                  <a:cubicBezTo>
                    <a:pt x="78" y="902"/>
                    <a:pt x="53" y="850"/>
                    <a:pt x="96" y="912"/>
                  </a:cubicBezTo>
                  <a:cubicBezTo>
                    <a:pt x="151" y="993"/>
                    <a:pt x="193" y="1085"/>
                    <a:pt x="248" y="1168"/>
                  </a:cubicBezTo>
                  <a:cubicBezTo>
                    <a:pt x="304" y="1253"/>
                    <a:pt x="377" y="1321"/>
                    <a:pt x="448" y="1392"/>
                  </a:cubicBezTo>
                  <a:cubicBezTo>
                    <a:pt x="490" y="1434"/>
                    <a:pt x="517" y="1486"/>
                    <a:pt x="568" y="1520"/>
                  </a:cubicBezTo>
                  <a:cubicBezTo>
                    <a:pt x="607" y="1579"/>
                    <a:pt x="680" y="1584"/>
                    <a:pt x="728" y="1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56040" y="3809880"/>
              <a:ext cx="1955880" cy="482760"/>
            </a:xfrm>
            <a:custGeom>
              <a:avLst/>
              <a:gdLst/>
              <a:ahLst/>
              <a:rect l="l" t="t" r="r" b="b"/>
              <a:pathLst>
                <a:path w="1232" h="304">
                  <a:moveTo>
                    <a:pt x="1232" y="304"/>
                  </a:moveTo>
                  <a:cubicBezTo>
                    <a:pt x="1219" y="253"/>
                    <a:pt x="1196" y="220"/>
                    <a:pt x="1160" y="184"/>
                  </a:cubicBezTo>
                  <a:cubicBezTo>
                    <a:pt x="1148" y="150"/>
                    <a:pt x="1138" y="141"/>
                    <a:pt x="1112" y="120"/>
                  </a:cubicBezTo>
                  <a:cubicBezTo>
                    <a:pt x="1096" y="106"/>
                    <a:pt x="1088" y="85"/>
                    <a:pt x="1072" y="72"/>
                  </a:cubicBezTo>
                  <a:cubicBezTo>
                    <a:pt x="1038" y="44"/>
                    <a:pt x="942" y="15"/>
                    <a:pt x="896" y="0"/>
                  </a:cubicBezTo>
                  <a:cubicBezTo>
                    <a:pt x="783" y="12"/>
                    <a:pt x="678" y="41"/>
                    <a:pt x="568" y="64"/>
                  </a:cubicBezTo>
                  <a:cubicBezTo>
                    <a:pt x="504" y="61"/>
                    <a:pt x="439" y="61"/>
                    <a:pt x="376" y="56"/>
                  </a:cubicBezTo>
                  <a:cubicBezTo>
                    <a:pt x="329" y="51"/>
                    <a:pt x="286" y="30"/>
                    <a:pt x="240" y="24"/>
                  </a:cubicBezTo>
                  <a:cubicBezTo>
                    <a:pt x="221" y="21"/>
                    <a:pt x="54" y="0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087800" y="4995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362480" y="21207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16920" y="1130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2"/>
                </a:solidFill>
                <a:latin typeface="Comic Sans MS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0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are i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1684440" y="1908000"/>
            <a:ext cx="6011640" cy="479772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1523880" y="1295280"/>
            <a:ext cx="64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CARIOTIPO IN QM (specifico il bandegg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428640" y="6858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ariotipo ordin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5440" y="4343400"/>
            <a:ext cx="808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no un’alternanza di bande chiare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ure lungo l’asse del cromoso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fica per ogni coppia di omologh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3720" y="1736640"/>
            <a:ext cx="872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rano una regione specifica di alcuni 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 tutti i cromosom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4800" y="3048120"/>
            <a:ext cx="784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-bande : tutti i centromeri e le regioni eterocromatiche varia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i cromosomi 1,9,16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7617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Metodi colorazione differen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6012000" cy="4797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8120" y="22860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65760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5867280"/>
            <a:ext cx="457200" cy="15264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93960" y="1066680"/>
            <a:ext cx="59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ilizzando la mostarda di quinacrina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6884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120" y="68580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QM-banding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DAPI   e   Q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62520" y="1879560"/>
            <a:ext cx="5181480" cy="4133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1892160"/>
            <a:ext cx="4114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743520" cy="5372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720" y="6858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G-b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6502680" cy="506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71800" y="609480"/>
            <a:ext cx="175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R-b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530532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33720" y="29718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720" y="449568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5840" y="609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Dia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4800" y="304812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62760" y="1219320"/>
            <a:ext cx="4862520" cy="916920"/>
            <a:chOff x="662760" y="1219320"/>
            <a:chExt cx="4862520" cy="916920"/>
          </a:xfrm>
        </p:grpSpPr>
        <p:sp>
          <p:nvSpPr>
            <p:cNvPr id="153" name=""/>
            <p:cNvSpPr/>
            <p:nvPr/>
          </p:nvSpPr>
          <p:spPr>
            <a:xfrm>
              <a:off x="662760" y="1219320"/>
              <a:ext cx="48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6,XX - cariotipo normale Femmin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1640" y="1676520"/>
              <a:ext cx="46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6,XY - cariotipo normale Masch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30560" y="2209680"/>
            <a:ext cx="593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o modo di scrivere ci da’ due informa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ero totale dei cromosomi (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o dell’org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240" y="3568680"/>
            <a:ext cx="6202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7,XY,+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schio con 47 cromosomi (invece di 4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d un cromosoma 21 in piu’ (sindrome di D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1560" y="5181480"/>
            <a:ext cx="55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X,del(14)(q23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=dele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9800" y="556272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Y,dup(14)(q22q25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= 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1880" y="5943600"/>
            <a:ext cx="74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X,r(7)(p22q36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=ring (cromosoma ad anell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43240" y="83808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Termin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13:04:24Z</dcterms:created>
  <dc:creator>Rocchi</dc:creator>
  <dc:description/>
  <dc:language>en-US</dc:language>
  <cp:lastModifiedBy>M.Rocchi</cp:lastModifiedBy>
  <dcterms:modified xsi:type="dcterms:W3CDTF">2003-01-21T16:52:19Z</dcterms:modified>
  <cp:revision>88</cp:revision>
  <dc:subject/>
  <dc:title>PowerPoint Presentation</dc:title>
</cp:coreProperties>
</file>